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gif" ContentType="image/gif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395-ADC3-4AFE-B012-81CF9AA0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028-AA99-4EF6-89EB-EB347EE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42B-8FB4-4C51-BB6C-3E25FC8E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4C5-7F80-4BB9-952B-089663D0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076A-37CF-4808-8BBB-41A64B48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1EE-ADED-4EED-8C10-C36E1F8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0F7-C9B6-4AD9-B5DE-A3FA1CE3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96E9-DC18-4E4D-926D-35FFA31C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64A1-DFA8-4204-B3D0-149DDDE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6F35-EC0E-4E78-8173-C5ED58D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FD07-A064-4428-83D9-3386178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B5B-D546-4A07-AA6C-780B23E4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A9EC-91E0-4251-BE7B-A1EC8C6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535-D857-4B4C-86A7-171A9785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AC91-F616-4960-9222-5411B28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6C9-E306-4F5F-A124-6134F306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20E-6B0E-47C7-BC0D-B32A146C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854-2CC6-48C9-8D91-5B13B32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8D1-6DCE-4788-938A-3C3961C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751-FBBC-4E15-BBC6-32E69F6C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61F-2C6C-41F1-9FD4-A5E55936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7DD-CBF4-49DD-8292-D4DBA52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A11-8165-4BE9-9C09-78903E2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975-426C-447C-ABF7-3E5370A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69D-302D-431D-B5A7-523FF00BDB8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0D7-C403-4590-9A15-D2B3576E95B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pts.washington.edu/vertp/exhibits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Evidence of Evolu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8200" y="457200"/>
            <a:ext cx="599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Homologous Structur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43000" y="1752480"/>
            <a:ext cx="7696080" cy="4285080"/>
            <a:chOff x="1143000" y="1752480"/>
            <a:chExt cx="7696080" cy="4285080"/>
          </a:xfrm>
        </p:grpSpPr>
        <p:sp>
          <p:nvSpPr>
            <p:cNvPr id="156" name=""/>
            <p:cNvSpPr/>
            <p:nvPr/>
          </p:nvSpPr>
          <p:spPr>
            <a:xfrm>
              <a:off x="1143000" y="175248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s that vary in form and/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3341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nvironmen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45720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rganism to survive in differ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388620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 has adapted to enable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320040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ame embryonic cells; ea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514600"/>
              <a:ext cx="769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function but developed from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Homologous Structu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1066680"/>
            <a:ext cx="7442280" cy="5791320"/>
            <a:chOff x="1066680" y="1066680"/>
            <a:chExt cx="7442280" cy="5791320"/>
          </a:xfrm>
        </p:grpSpPr>
        <p:pic>
          <p:nvPicPr>
            <p:cNvPr id="164" name="humanarm" descr="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215892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whalearm" descr=""/>
            <p:cNvPicPr/>
            <p:nvPr/>
          </p:nvPicPr>
          <p:blipFill>
            <a:blip r:embed="rId2"/>
            <a:stretch/>
          </p:blipFill>
          <p:spPr>
            <a:xfrm>
              <a:off x="4038480" y="1219320"/>
              <a:ext cx="16113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crocarm" descr=""/>
            <p:cNvPicPr/>
            <p:nvPr/>
          </p:nvPicPr>
          <p:blipFill>
            <a:blip r:embed="rId3"/>
            <a:stretch/>
          </p:blipFill>
          <p:spPr>
            <a:xfrm>
              <a:off x="5867280" y="1295280"/>
              <a:ext cx="21862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catarm" descr=""/>
            <p:cNvPicPr/>
            <p:nvPr/>
          </p:nvPicPr>
          <p:blipFill>
            <a:blip r:embed="rId4"/>
            <a:stretch/>
          </p:blipFill>
          <p:spPr>
            <a:xfrm>
              <a:off x="1066680" y="4191120"/>
              <a:ext cx="1658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birdarm" descr=""/>
            <p:cNvPicPr/>
            <p:nvPr/>
          </p:nvPicPr>
          <p:blipFill>
            <a:blip r:embed="rId5"/>
            <a:stretch/>
          </p:blipFill>
          <p:spPr>
            <a:xfrm>
              <a:off x="3733920" y="4038480"/>
              <a:ext cx="1557360" cy="26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batarm" descr=""/>
            <p:cNvPicPr/>
            <p:nvPr/>
          </p:nvPicPr>
          <p:blipFill>
            <a:blip r:embed="rId6"/>
            <a:stretch/>
          </p:blipFill>
          <p:spPr>
            <a:xfrm>
              <a:off x="6858000" y="3733920"/>
              <a:ext cx="165096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914400" y="13716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4479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523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144792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52360" y="48096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Vestigial Structur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5280" y="2057400"/>
            <a:ext cx="6858000" cy="2379960"/>
            <a:chOff x="1295280" y="2057400"/>
            <a:chExt cx="6858000" cy="2379960"/>
          </a:xfrm>
        </p:grpSpPr>
        <p:sp>
          <p:nvSpPr>
            <p:cNvPr id="176" name=""/>
            <p:cNvSpPr/>
            <p:nvPr/>
          </p:nvSpPr>
          <p:spPr>
            <a:xfrm>
              <a:off x="1295280" y="20574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tructures that had a function 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373392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presently have no fun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5280" y="289548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the species’ past bu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Vestigial Structu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9051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le &amp; snake pelv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4290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n appendix &amp; tail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42670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 &amp; cat duc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13120" y="457200"/>
            <a:ext cx="6011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6600"/>
                </a:solidFill>
                <a:latin typeface="Castellar"/>
              </a:rPr>
              <a:t>Similarities in Embryology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133720"/>
            <a:ext cx="72388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the early stages of embryonic development are very similar in organisms that are closely related; the same group of embryonic cells develop in the same ord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Embryolog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2133720"/>
            <a:ext cx="8048880" cy="4200480"/>
            <a:chOff x="838080" y="2133720"/>
            <a:chExt cx="8048880" cy="420048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838080" y="2210040"/>
              <a:ext cx="105732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752480" y="2133720"/>
              <a:ext cx="106704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2819520" y="2133720"/>
              <a:ext cx="799920" cy="40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3733920" y="2210040"/>
              <a:ext cx="885600" cy="39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5943600" y="2133720"/>
              <a:ext cx="85716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7010280" y="2133720"/>
              <a:ext cx="695520" cy="40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4724280" y="2133720"/>
              <a:ext cx="107640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7924680" y="2133720"/>
              <a:ext cx="962280" cy="39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6858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1676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14760" y="480960"/>
            <a:ext cx="47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Similarities in DN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752480"/>
            <a:ext cx="3657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the more similar the DNA sequences of two species, the more recently they shared a common ancestor and the more closely related they a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dna.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8680" y="480960"/>
            <a:ext cx="44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The Fossil Recor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4880" y="1924200"/>
            <a:ext cx="77882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Fossils are evidence of once living organis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lbertosauru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2666880"/>
            <a:ext cx="2362320" cy="2248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95280" y="3809880"/>
            <a:ext cx="5181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(examples:  footprint,     shells, bones, tools, writings, buildings, et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The Fossil recor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1752480"/>
            <a:ext cx="7696440" cy="3522960"/>
            <a:chOff x="838080" y="1752480"/>
            <a:chExt cx="7696440" cy="3522960"/>
          </a:xfrm>
        </p:grpSpPr>
        <p:sp>
          <p:nvSpPr>
            <p:cNvPr id="95" name=""/>
            <p:cNvSpPr/>
            <p:nvPr/>
          </p:nvSpPr>
          <p:spPr>
            <a:xfrm>
              <a:off x="1447920" y="457200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ver tim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388620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document that life has chang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312408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younger layers, scientists coul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243828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rock layers with fossils fr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1752480"/>
              <a:ext cx="7467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2.  by comparing fossils from old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Geographic Distribution of Living Species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2286000"/>
            <a:ext cx="8381880" cy="2913120"/>
            <a:chOff x="762120" y="2286000"/>
            <a:chExt cx="8381880" cy="2913120"/>
          </a:xfrm>
        </p:grpSpPr>
        <p:sp>
          <p:nvSpPr>
            <p:cNvPr id="102" name=""/>
            <p:cNvSpPr/>
            <p:nvPr/>
          </p:nvSpPr>
          <p:spPr>
            <a:xfrm>
              <a:off x="1219320" y="449568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nvironmen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5280" y="373356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because they do not have a simil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5280" y="297144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related organisms may not look ali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2286000"/>
              <a:ext cx="83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1.  </a:t>
              </a:r>
              <a:r>
                <a:rPr b="1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Adaptive Radiation (Divergence)</a:t>
              </a: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 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Adaptive radiation (divergence)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482400"/>
                </a:solidFill>
                <a:latin typeface="Times New Roman"/>
              </a:rPr>
              <a:t>Common Ancesto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7920" y="2514600"/>
            <a:ext cx="4420080" cy="1828800"/>
            <a:chOff x="2437920" y="2514600"/>
            <a:chExt cx="4420080" cy="1828800"/>
          </a:xfrm>
        </p:grpSpPr>
        <p:sp>
          <p:nvSpPr>
            <p:cNvPr id="109" name=""/>
            <p:cNvSpPr/>
            <p:nvPr/>
          </p:nvSpPr>
          <p:spPr>
            <a:xfrm flipH="1">
              <a:off x="2437920" y="2514600"/>
              <a:ext cx="2133720" cy="16765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2514600"/>
              <a:ext cx="0" cy="18288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514600"/>
              <a:ext cx="2286000" cy="16002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38080" y="4419720"/>
            <a:ext cx="7543800" cy="2133360"/>
            <a:chOff x="838080" y="4419720"/>
            <a:chExt cx="7543800" cy="2133360"/>
          </a:xfrm>
        </p:grpSpPr>
        <p:pic>
          <p:nvPicPr>
            <p:cNvPr id="113" name="grizzly" descr=""/>
            <p:cNvPicPr/>
            <p:nvPr/>
          </p:nvPicPr>
          <p:blipFill>
            <a:blip r:embed="rId2"/>
            <a:stretch/>
          </p:blipFill>
          <p:spPr>
            <a:xfrm>
              <a:off x="838080" y="4495680"/>
              <a:ext cx="25909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andabear" descr=""/>
            <p:cNvPicPr/>
            <p:nvPr/>
          </p:nvPicPr>
          <p:blipFill>
            <a:blip r:embed="rId3"/>
            <a:stretch/>
          </p:blipFill>
          <p:spPr>
            <a:xfrm>
              <a:off x="3809880" y="4419720"/>
              <a:ext cx="213372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olarbear" descr=""/>
            <p:cNvPicPr/>
            <p:nvPr/>
          </p:nvPicPr>
          <p:blipFill>
            <a:blip r:embed="rId4"/>
            <a:stretch/>
          </p:blipFill>
          <p:spPr>
            <a:xfrm>
              <a:off x="6248520" y="4419720"/>
              <a:ext cx="213336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6324480" y="243828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Diverged into different environ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Adaptive radiation (divergence)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482400"/>
                </a:solidFill>
                <a:latin typeface="Times New Roman"/>
              </a:rPr>
              <a:t>Common Ancestor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28600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Diverged into different environ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66680" y="4191120"/>
            <a:ext cx="7512120" cy="2666880"/>
            <a:chOff x="1066680" y="4191120"/>
            <a:chExt cx="7512120" cy="2666880"/>
          </a:xfrm>
        </p:grpSpPr>
        <p:pic>
          <p:nvPicPr>
            <p:cNvPr id="121" name="arcticfox1" descr=""/>
            <p:cNvPicPr/>
            <p:nvPr/>
          </p:nvPicPr>
          <p:blipFill>
            <a:blip r:embed="rId2"/>
            <a:stretch/>
          </p:blipFill>
          <p:spPr>
            <a:xfrm>
              <a:off x="3352680" y="4267080"/>
              <a:ext cx="312444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kitfox" descr=""/>
            <p:cNvPicPr/>
            <p:nvPr/>
          </p:nvPicPr>
          <p:blipFill>
            <a:blip r:embed="rId3"/>
            <a:stretch/>
          </p:blipFill>
          <p:spPr>
            <a:xfrm>
              <a:off x="7010280" y="4191120"/>
              <a:ext cx="15685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redfox" descr=""/>
            <p:cNvPicPr/>
            <p:nvPr/>
          </p:nvPicPr>
          <p:blipFill>
            <a:blip r:embed="rId4"/>
            <a:stretch/>
          </p:blipFill>
          <p:spPr>
            <a:xfrm>
              <a:off x="1066680" y="4191120"/>
              <a:ext cx="1781280" cy="26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285640" y="2514600"/>
            <a:ext cx="5029560" cy="1600200"/>
            <a:chOff x="2285640" y="2514600"/>
            <a:chExt cx="5029560" cy="1600200"/>
          </a:xfrm>
        </p:grpSpPr>
        <p:sp>
          <p:nvSpPr>
            <p:cNvPr id="125" name=""/>
            <p:cNvSpPr/>
            <p:nvPr/>
          </p:nvSpPr>
          <p:spPr>
            <a:xfrm>
              <a:off x="4724280" y="2514600"/>
              <a:ext cx="0" cy="15238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285640" y="2514600"/>
              <a:ext cx="2438280" cy="14479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2514600"/>
              <a:ext cx="2590920" cy="16002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Castellar"/>
              </a:rPr>
              <a:t>Geographic Distribution of Living Species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286000"/>
            <a:ext cx="8458200" cy="3446640"/>
            <a:chOff x="685800" y="2286000"/>
            <a:chExt cx="8458200" cy="3446640"/>
          </a:xfrm>
        </p:grpSpPr>
        <p:sp>
          <p:nvSpPr>
            <p:cNvPr id="130" name=""/>
            <p:cNvSpPr/>
            <p:nvPr/>
          </p:nvSpPr>
          <p:spPr>
            <a:xfrm>
              <a:off x="1219320" y="5029200"/>
              <a:ext cx="62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the same environm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403884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similar structures because they sh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44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organisms can have remarkab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228600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2.  </a:t>
              </a:r>
              <a:r>
                <a:rPr b="1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Convergence </a:t>
              </a: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– unrela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Convergence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28800" y="4038480"/>
            <a:ext cx="5181480" cy="1219320"/>
            <a:chOff x="1828800" y="4038480"/>
            <a:chExt cx="5181480" cy="1219320"/>
          </a:xfrm>
        </p:grpSpPr>
        <p:sp>
          <p:nvSpPr>
            <p:cNvPr id="136" name=""/>
            <p:cNvSpPr/>
            <p:nvPr/>
          </p:nvSpPr>
          <p:spPr>
            <a:xfrm>
              <a:off x="1828800" y="4191120"/>
              <a:ext cx="2209680" cy="10666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4038480"/>
              <a:ext cx="0" cy="114300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724280" y="4191120"/>
              <a:ext cx="2286000" cy="106668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743200" y="548640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Converged into the same environment…not rel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38080" y="1981080"/>
            <a:ext cx="8077320" cy="2133720"/>
            <a:chOff x="838080" y="1981080"/>
            <a:chExt cx="8077320" cy="2133720"/>
          </a:xfrm>
        </p:grpSpPr>
        <p:pic>
          <p:nvPicPr>
            <p:cNvPr id="141" name="dolphin" descr=""/>
            <p:cNvPicPr/>
            <p:nvPr/>
          </p:nvPicPr>
          <p:blipFill>
            <a:blip r:embed="rId2"/>
            <a:stretch/>
          </p:blipFill>
          <p:spPr>
            <a:xfrm>
              <a:off x="838080" y="198108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hark" descr=""/>
            <p:cNvPicPr/>
            <p:nvPr/>
          </p:nvPicPr>
          <p:blipFill>
            <a:blip r:embed="rId3"/>
            <a:stretch/>
          </p:blipFill>
          <p:spPr>
            <a:xfrm>
              <a:off x="3200400" y="2057400"/>
              <a:ext cx="29718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clownfish" descr=""/>
            <p:cNvPicPr/>
            <p:nvPr/>
          </p:nvPicPr>
          <p:blipFill>
            <a:blip r:embed="rId4"/>
            <a:stretch/>
          </p:blipFill>
          <p:spPr>
            <a:xfrm>
              <a:off x="6324480" y="2057400"/>
              <a:ext cx="2590920" cy="195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00"/>
                </a:solidFill>
                <a:latin typeface="Castellar"/>
              </a:rPr>
              <a:t>Convergence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28800" y="4191120"/>
            <a:ext cx="5181480" cy="1218600"/>
            <a:chOff x="1828800" y="4191120"/>
            <a:chExt cx="5181480" cy="1218600"/>
          </a:xfrm>
        </p:grpSpPr>
        <p:sp>
          <p:nvSpPr>
            <p:cNvPr id="146" name=""/>
            <p:cNvSpPr/>
            <p:nvPr/>
          </p:nvSpPr>
          <p:spPr>
            <a:xfrm>
              <a:off x="1828800" y="4343400"/>
              <a:ext cx="2209680" cy="10663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9720" y="4191120"/>
              <a:ext cx="0" cy="114264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24280" y="4343400"/>
              <a:ext cx="2286000" cy="106632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43200" y="5486400"/>
            <a:ext cx="434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Converged into the same environment…not rel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2352600"/>
            <a:ext cx="8229600" cy="1847880"/>
            <a:chOff x="685800" y="2352600"/>
            <a:chExt cx="8229600" cy="1847880"/>
          </a:xfrm>
        </p:grpSpPr>
        <p:pic>
          <p:nvPicPr>
            <p:cNvPr id="151" name="bat14" descr=""/>
            <p:cNvPicPr/>
            <p:nvPr/>
          </p:nvPicPr>
          <p:blipFill>
            <a:blip r:embed="rId2"/>
            <a:stretch/>
          </p:blipFill>
          <p:spPr>
            <a:xfrm>
              <a:off x="6019920" y="2352600"/>
              <a:ext cx="28954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butterfly" descr=""/>
            <p:cNvPicPr/>
            <p:nvPr/>
          </p:nvPicPr>
          <p:blipFill>
            <a:blip r:embed="rId3"/>
            <a:stretch/>
          </p:blipFill>
          <p:spPr>
            <a:xfrm>
              <a:off x="3276720" y="2362320"/>
              <a:ext cx="259056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eagle" descr=""/>
            <p:cNvPicPr/>
            <p:nvPr/>
          </p:nvPicPr>
          <p:blipFill>
            <a:blip r:embed="rId4"/>
            <a:stretch/>
          </p:blipFill>
          <p:spPr>
            <a:xfrm>
              <a:off x="685800" y="2362320"/>
              <a:ext cx="2438280" cy="183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7:47:07Z</dcterms:created>
  <dc:creator>Plano ISD</dc:creator>
  <dc:description/>
  <dc:language>en-US</dc:language>
  <cp:lastModifiedBy>Plano ISD</cp:lastModifiedBy>
  <dcterms:modified xsi:type="dcterms:W3CDTF">2005-01-03T17:32:29Z</dcterms:modified>
  <cp:revision>27</cp:revision>
  <dc:subject/>
  <dc:title>PowerPoint Presentation</dc:title>
</cp:coreProperties>
</file>